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26CF-D1DE-459F-AACD-E2AC145FA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CED3-24DE-4098-B640-7299B31C3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E1527F-1961-4569-A34D-D0D888CB5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4707A6-D8CF-4390-9F8B-D9BEA6930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958340-CF81-4FA7-81C5-43280BD1F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B51AAC-2A13-4604-B1FD-59DF8FE0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18DA1E-9788-41C6-AEB6-A6F90678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C22C54-DF38-404B-AA75-F86F31D3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75C99D-36EA-4D2B-84C1-52C2B50A4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39C024-2D5A-4E68-9AC0-DEAA3B0BF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506BDD-B7A4-4E44-98ED-E5B35977D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8EA15F-A25D-4C1E-A330-149BEC464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7F3D-A402-4AEF-8F40-2D938600A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E8B1FA-6A8B-489F-975D-C61918787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3C50B9-7496-4154-94CF-2B5413C2A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7AEB28-B9DE-48DD-AD31-87E0393EA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BD9CBA-6B9E-4405-8D56-0AD277B6F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99F4A0-EAA7-491D-9161-0628E4E39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64FB84-F1C1-4A7A-B3AC-CEB50AE5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3E0953-F414-452E-BD1E-C8DD8A94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EFB85E-D685-4D87-B012-877CA3EA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128EBA-6E08-4E9C-9B01-86A4740EF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0FCAB8-889D-4994-A4E6-62668E297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140E-11DB-45C4-B2E7-8F5B6534C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FD5909-A5C3-4BA9-B0E6-8F9086C70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2FCBE2-7F59-4F09-97BC-C05CB6B66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1C5BB9-0F53-46BF-AB33-522AB679D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32D7DD-B12E-4859-B82D-32DF9810C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DD81B5-0C97-4118-8992-798B48692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E96BF6-FF7B-4B78-B36E-FB2F72936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AD792D-5950-4712-9C50-34395A8E7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2A532E-BC0C-401A-BC18-0A7009A1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3EF8-C41B-4289-A47F-FE92C7AF3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A27696-EBDF-4A5B-A2A1-3B5E14BD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F8C8E7-3EFC-483E-B3A8-38279B1A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B86434-EBCD-4586-A9CF-125433BAF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021EEB-2AB1-4D91-BA78-8B6BC444D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3B87E1-91DB-4684-8C0B-48BA08D88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D8D6B-33A9-4C4E-ACC6-36072389C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4CB8E-594C-45A7-9926-50EF1EA56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5BD3C-E493-4F94-832F-50F0E9EAB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44018-3A8C-48D0-AA92-63B5EC6BD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87293-EB2B-46B7-A4E1-418661FB1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D8AA-0BF3-4912-918F-98995F082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B3A99-8706-4ADC-B44C-42694E143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7919F-E449-4327-91C6-E4167B0E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C87CF-B693-4690-9DD2-8AE91CFC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99ACB-1F97-4781-8522-114135EB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15D03-18DF-493C-AF51-1D84FD90C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3DD94-82F9-4B71-85C0-4CA6013FC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1878B-756E-4B57-A657-0B6872206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7E02A-7D5C-4A51-8AB9-449B7867A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03663-7577-4734-94FF-464BA1EA5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78137-5538-420F-932D-C9994DB99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C4B2-0E86-4D4D-AC3A-7BE277B7C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1773A-C5BF-468F-8425-290512307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AC315-D68D-4666-9918-11D58324F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3D346-00A1-4B5E-86F3-C720FE805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8C416-115F-4ACB-A521-B67EECAE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9FDAF-D484-456E-A063-87CD46EA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CC9FE-198B-44FC-B5EC-F335349D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8C650-22E4-4F71-8211-9314C40EB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574A7-33C0-4B45-A54A-C4B4F8CFB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EE431-4B59-424F-9659-E91C166FA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208E9-96E3-498E-B976-02447A4B9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F239-1858-47BA-8BAE-D03ED2E48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24D66-2C2C-4395-9F24-0087FCBA8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EDD76-CF77-40D8-A84D-358CFDC3D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BE4AE-F151-4D46-9FDA-9DB733C19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664B7-9741-4D56-92E0-1BCC70F17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99399-9AD7-401E-962D-759A02A3B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DF02F-7872-45BF-A392-F0B3C019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F888A-BEB6-41C2-84CB-4C946E2B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22E68-2D2A-4B06-8C5C-093E2B45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A7A4A-33E2-46C3-9378-95A5D5DE0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EDEC8-2537-4CA3-AE48-D92F07389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7FA5-E534-43B9-8589-AB02BA521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53988-0871-4744-8A99-FA20BA16F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CC0E4-108B-46A4-8D33-FDB417364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ABF40B-A8F3-4298-A32A-27BB4C359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8527A-AD7D-4A58-9192-2BF913CB1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AC0A8-D975-445A-B33A-D9ACB489E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4797BC-F896-4A83-AE68-1800FDEC9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5EF1D-D9F6-462B-B958-8E9E9D54A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09F79-320D-48FA-907E-66055E5A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E2E48-0330-4966-B1E5-5604929C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0DD73-5B23-469F-A5AB-76AAC4E0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0C76-5C54-4E29-8718-70EFA995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55C6FD-9758-4EEC-A68E-797B4150C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5E5FF-CFE0-476A-9B0B-91EA1E285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5CF55-16C6-44A2-A30E-496D8510E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41DD0-8031-4421-8110-EA6520654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58E49F-0286-4954-B497-B22F26670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7D71E7-6DD8-476C-ADDA-AC357AA17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691CBD-2DA7-4A3C-908B-6E0AFB5D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3817F-DB0C-4E9C-A420-AFED71044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7EEBFF-7306-40FA-BAC5-457CB1AC7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C9F7E7-5DAB-47DB-ABFB-D82B2AF2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A326-634E-437E-ACA8-E1BEB687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5C83C1-A091-4DFA-A096-F8726A2D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48DA61-855C-4DA0-A448-2389548C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3013C-2BD6-4119-A6D2-C20EF96DF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DCB8C-2C0F-45DB-B1E1-91FC1D9BD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832053-47E6-41B0-B8E6-E4CF70680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206CFB-337A-4842-815C-5FB09CDBD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C02E19-5C40-4286-B900-3F6957DBC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99DC1A-10D6-4E7A-81A9-1A6DA9F3C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916612-F8EB-423C-A039-945F09CFD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ADC477-F7D9-4549-AB0C-D1F833F71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95BD-5C74-4425-B1C5-5D09C368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55482B-594C-4D08-95FE-6E7CFD603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D1D160-E0A6-4A38-88B3-4D2A9F9F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7568E9-E634-4073-BB3D-4DCC5B7B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175A4C-9C30-4F51-BBCF-8493916B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4FCE81-F52F-4170-973E-CE368B817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584AED-8441-48A1-A83C-CA6CEC8F5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62BA73-DCE2-42D9-9F99-9B7FAA2D6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FEEA49-260B-4418-B32A-5757FEF56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BFB26E-222F-45A4-9E98-0A89C30D4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42C2B7-3DE9-4771-941B-8F4E91D22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39728-42B0-40F8-B390-A200B5582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dt" idx="28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7E62D-0F04-4A60-9C16-199EE5E9D4D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496F2-0E96-475C-8A41-B217713CF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22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33F3A-93FB-44B7-AA21-FB6241FB980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98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dt" idx="1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ftr" idx="1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A5BBE-F649-4ED9-8185-9982698C892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89B6D-BE1B-459F-9448-592DB69BF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6FDB9-945D-4F54-A8DF-99A814E12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354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56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81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dt" idx="19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ftr" idx="20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sldNum" idx="21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B847-2549-40D9-8A74-EC2CB867421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460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1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462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87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6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dt" idx="22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ftr" idx="23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C84D6-B509-4A03-B06A-AA9EC58C1E7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25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57FA5-DFA7-489F-81F5-D874D452FD3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1979640" y="496800"/>
            <a:ext cx="5545080" cy="792360"/>
          </a:xfrm>
          <a:custGeom>
            <a:avLst/>
            <a:gdLst>
              <a:gd name="textAreaLeft" fmla="*/ 93240 w 5545080"/>
              <a:gd name="textAreaRight" fmla="*/ 5451840 w 5545080"/>
              <a:gd name="textAreaTop" fmla="*/ 93240 h 792360"/>
              <a:gd name="textAreaBottom" fmla="*/ 699120 h 792360"/>
            </a:gdLst>
            <a:ahLst/>
            <a:rect l="textAreaLeft" t="textAreaTop" r="textAreaRight" b="textAreaBottom"/>
            <a:pathLst>
              <a:path w="15110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7502" y="21600"/>
                </a:lnTo>
                <a:arcTo wR="3600" hR="3600" stAng="10800000" swAng="5400000"/>
                <a:lnTo>
                  <a:pt x="151102" y="3600"/>
                </a:lnTo>
                <a:arcTo wR="3600" hR="3600" stAng="5400000" swAng="5400000"/>
                <a:close/>
              </a:path>
            </a:pathLst>
          </a:custGeom>
          <a:solidFill>
            <a:srgbClr val="ffff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39640" y="47628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دروس في الرياضيات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116000" y="1700280"/>
            <a:ext cx="7559640" cy="4176720"/>
          </a:xfrm>
          <a:prstGeom prst="flowChartMultidocumen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547640" y="1773360"/>
            <a:ext cx="698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كثيرات الحدود – ثاني متوسط – ف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2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187280" y="2565360"/>
            <a:ext cx="6985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كتابة وتنسيق / محمد عبدالله السيد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cs typeface="Traditional Arabic"/>
              </a:rPr>
              <a:t>مدرسة ابن عثيمين المتوسطة بمحافظة الزلف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8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/ 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9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هـ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136440" y="2724120"/>
            <a:ext cx="8893440" cy="4133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77920" y="271440"/>
            <a:ext cx="8675640" cy="230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788000" y="5013360"/>
            <a:ext cx="3816360" cy="6476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4716360" y="1844640"/>
            <a:ext cx="1584360" cy="576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116000" y="404640"/>
            <a:ext cx="74883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~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درجة كثيرة الحدود :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# - س @ + س –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هي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 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الخامسة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    ب~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السادس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ج~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الرابعة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        د~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الثالث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-274680" y="2852640"/>
            <a:ext cx="914400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إذا رتبنا كثيرة الحدود : س – س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#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– س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تنازليا ً تصب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س # - س@  + 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ب~ - س# + س @ + 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ج~ - س# - س@ + 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د~ س# + س@ + س +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971640" y="4508640"/>
            <a:ext cx="3095640" cy="2349360"/>
          </a:xfrm>
          <a:prstGeom prst="flowChartMultidocumen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57240">
            <a:solidFill>
              <a:srgbClr val="0deb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84360" y="4888080"/>
            <a:ext cx="287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Verdana"/>
              </a:rPr>
              <a:t>وإلى اللقاء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39640" y="5661000"/>
            <a:ext cx="28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Verdana"/>
              </a:rPr>
              <a:t>محمد السيد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9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0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1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5" dur="1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animClr clrSpc="rgb">
                                      <p:cBhvr>
                                        <p:cTn id="1056" dur="1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set>
                                      <p:cBhvr>
                                        <p:cTn id="1057" dur="1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5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5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6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6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7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1" dur="1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animClr clrSpc="rgb">
                                      <p:cBhvr>
                                        <p:cTn id="1072" dur="1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set>
                                      <p:cBhvr>
                                        <p:cTn id="1073" dur="1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7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7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7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7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3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8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3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539640" y="2276640"/>
            <a:ext cx="8353440" cy="458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39640" y="1197000"/>
            <a:ext cx="835344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076720" y="5084640"/>
            <a:ext cx="1871640" cy="8654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987640" y="3141720"/>
            <a:ext cx="2160720" cy="107928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7219800" y="1341360"/>
            <a:ext cx="1619280" cy="72072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2771640" y="42840"/>
            <a:ext cx="4464360" cy="93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b7f6a8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340000" y="-14400"/>
            <a:ext cx="432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463416"/>
                </a:solidFill>
                <a:latin typeface="Arial"/>
              </a:rPr>
              <a:t>كثيرات الحدو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-439560" y="1268280"/>
            <a:ext cx="9396360" cy="89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تمهيد :  اختر الإجابة الصحيحة فيما يأتي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وحيدة الحد فيما يلي هي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ا~ #؛    ب~ ذ س+ص    ج~ ذ س ص     د~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  ذ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درجة وحيدة الحد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س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@ص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بالنسبة للمتغير س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ا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أولى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ب~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الثاني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  ج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ثالثة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 د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رابع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ناتج جمع :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8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@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+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@ 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7361280" y="35352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971640" y="31971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  <a:cs typeface="Al-KsorZulfiMath"/>
              </a:rPr>
              <a:t>ذ 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1258920" y="3716280"/>
            <a:ext cx="792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971640" y="357336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770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770" fill="hold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" dur="770" fill="hold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1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3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1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animClr clrSpc="rgb">
                                      <p:cBhvr>
                                        <p:cTn id="152" dur="1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set>
                                      <p:cBhvr>
                                        <p:cTn id="153" dur="1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441360" y="4371840"/>
            <a:ext cx="8569440" cy="248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38120" y="2674800"/>
            <a:ext cx="8569440" cy="169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76280" y="184320"/>
            <a:ext cx="8569440" cy="24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419640" y="1341360"/>
            <a:ext cx="2808000" cy="6494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7732800" y="4149720"/>
            <a:ext cx="1258920" cy="719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7588080" y="2708280"/>
            <a:ext cx="1403640" cy="649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276720" y="1916280"/>
            <a:ext cx="1944720" cy="72072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364000" y="260280"/>
            <a:ext cx="1944720" cy="6476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68360" y="270000"/>
            <a:ext cx="867564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0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ب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ب~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0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ب @       ج~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0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ب $        د~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6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ب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@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rabic Transparent"/>
              </a:rPr>
              <a:t>ناتج طرح :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ا ب  –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ا ب 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 ا~  ذ ا ب    ب~ -ذ ا@ب@    ج~ - ذ ا ب     د~  ذ ا@ب@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-160200" y="2637000"/>
            <a:ext cx="91440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تعريف : كثيرة الحدود هي عبارة رياضية ناتجة عن جم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وحيدتي حد أو أكثر غير متشابهتي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أمثلة :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س@ ص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 ذ~ ذ ا@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ا ب –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ب@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~  س# - س@  + س -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68360" y="4292640"/>
            <a:ext cx="38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ar-SA" sz="3600" spc="-1" strike="noStrike">
                <a:solidFill>
                  <a:srgbClr val="ff3300"/>
                </a:solidFill>
                <a:latin typeface="Verdana"/>
              </a:rPr>
              <a:t>وتسمى ثنائية ح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0" y="5084640"/>
            <a:ext cx="52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        وتسمى ثلاثية حدو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24000" y="595008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       وتسمى رباعية حدود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2340000" y="126828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Verdana"/>
              </a:rPr>
              <a:t>كثيرات الحدو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" dur="2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4" dur="2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8" dur="2000" fill="hold"/>
                                        <p:tgtEl>
                                          <p:spTgt spid="6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4" dur="2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582480" y="4348080"/>
            <a:ext cx="8353440" cy="250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69960" y="1927080"/>
            <a:ext cx="8353440" cy="23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539640" y="100080"/>
            <a:ext cx="835344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7910640" y="4394160"/>
            <a:ext cx="1042920" cy="863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492360" y="944640"/>
            <a:ext cx="3311640" cy="93672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1476360" y="18900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وكل منها يسمى كثيرة حدو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2506680" y="1031760"/>
            <a:ext cx="41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3300"/>
                </a:solidFill>
                <a:latin typeface="Verdana"/>
              </a:rPr>
              <a:t>تبسيط كثيرة الحدو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-190440" y="2021040"/>
            <a:ext cx="91440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</a:rPr>
              <a:t>تكون كثيرة الحدود غير مبسطة إذا وجد فيها على الأق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</a:rPr>
              <a:t>حدين متشابهين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0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</a:rPr>
              <a:t>مثل :  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  <a:cs typeface="Al-KsorZulfiMath"/>
              </a:rPr>
              <a:t>ذ س@ +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5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  <a:cs typeface="Al-KsorZulfiMath"/>
              </a:rPr>
              <a:t>س  -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3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  <a:cs typeface="Al-KsorZulfiMath"/>
              </a:rPr>
              <a:t>س +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وتبسيطها يكون بجمع حدودها المتشابه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مثال :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~ ذ س@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س –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س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 =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ذ س@ +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س –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س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)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=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ذ~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ا + ذ ب – ذ ا + ب -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84360" y="5445000"/>
            <a:ext cx="32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  <a:cs typeface="Al-KsorZulfiMath"/>
              </a:rPr>
              <a:t>ذ س@ +ذ س +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11280" y="630864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Verdana"/>
                <a:ea typeface="Al-KsorZulfiMath"/>
              </a:rPr>
              <a:t> = ا +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3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  <a:ea typeface="Al-KsorZulfiMath"/>
              </a:rPr>
              <a:t> ب - 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1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1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971640" y="1484280"/>
            <a:ext cx="7921440" cy="403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971640" y="260280"/>
            <a:ext cx="792144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5364000" y="271440"/>
            <a:ext cx="3456000" cy="720720"/>
          </a:xfrm>
          <a:custGeom>
            <a:avLst/>
            <a:gdLst>
              <a:gd name="textAreaLeft" fmla="*/ 0 w 3456000"/>
              <a:gd name="textAreaRight" fmla="*/ 3456360 w 3456000"/>
              <a:gd name="textAreaTop" fmla="*/ 93240 h 720720"/>
              <a:gd name="textAreaBottom" fmla="*/ 6274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884160" y="260280"/>
            <a:ext cx="799308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</a:rPr>
              <a:t>تدريب (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) صفحة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40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: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 حدد أيا ً من كثيرات الحدود التالية مبسطة وأيا ً منها غير مبسطة ، وبسط غير المبسط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8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س +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ذ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ص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ص –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0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ب~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س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6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ج~ -ذ 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ص 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ص 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6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د~ %؛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س - @؛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39640" y="162864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= - ذ س +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9</a:t>
            </a:r>
            <a:r>
              <a:rPr b="0" lang="hi-IN" sz="3200" spc="-1" strike="noStrike">
                <a:solidFill>
                  <a:srgbClr val="ff3300"/>
                </a:solidFill>
                <a:latin typeface="Verdana"/>
                <a:cs typeface="Al-KsorZulfiMath"/>
              </a:rPr>
              <a:t>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84360" y="2205000"/>
            <a:ext cx="417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  مبسطة لأن حدودها مختلق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39640" y="299736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 =   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4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</a:t>
            </a:r>
            <a:r>
              <a:rPr b="0" lang="hi-IN" sz="3200" spc="-1" strike="noStrike">
                <a:solidFill>
                  <a:srgbClr val="ff3300"/>
                </a:solidFill>
                <a:latin typeface="Verdana"/>
                <a:cs typeface="Al-KsorZulfiMath"/>
              </a:rPr>
              <a:t>س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826920" y="3684600"/>
            <a:ext cx="46818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= %؛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6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 س - $؛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6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 س +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rabic Transparent"/>
              </a:rPr>
              <a:t>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=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!؛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6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 س + 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rabic Transparent"/>
              </a:rPr>
              <a:t>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1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770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9" dur="770" fill="hold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1" dur="770" fill="hold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3" dur="770" fill="hold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770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8" dur="770" fill="hold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0" dur="770" fill="hold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2" dur="770" fill="hold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770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7" dur="770" fill="hold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9" dur="770" fill="hold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1" dur="770" fill="hold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770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6" dur="770" fill="hold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8" dur="770" fill="hold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0" dur="770" fill="hold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8" dur="500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77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4" dur="77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6" dur="77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8" dur="77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770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5" dur="77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7" dur="77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9" dur="77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281160" y="3789360"/>
            <a:ext cx="8634240" cy="273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04920" y="2333520"/>
            <a:ext cx="8634240" cy="1382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38040" y="1031760"/>
            <a:ext cx="8634600" cy="126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7956720" y="2421000"/>
            <a:ext cx="936360" cy="7207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771640" y="127080"/>
            <a:ext cx="4032360" cy="86364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814480" y="146160"/>
            <a:ext cx="33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3300"/>
                </a:solidFill>
                <a:latin typeface="Verdana"/>
              </a:rPr>
              <a:t>درجة كثيرة الحدو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19240" y="1146240"/>
            <a:ext cx="88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درجة كثيرة الحدود بالنسبة لمتغير فيها تساوي أكبر أس  لهذا المتغير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84360" y="253224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Verdana"/>
              </a:rPr>
              <a:t>أمثلة :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~ ذ س#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س -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564000" y="2997360"/>
            <a:ext cx="503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بالنسبة للمتغير س من الدرج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893880" y="310356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hi-IN" sz="3600" spc="-1" strike="noStrike">
                <a:solidFill>
                  <a:srgbClr val="0000ff"/>
                </a:solidFill>
                <a:latin typeface="Verdana"/>
              </a:rPr>
              <a:t>الثالث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203640" y="3860640"/>
            <a:ext cx="518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ذ~ س ص% + ذ س@ - س# ص@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-92160" y="3860640"/>
            <a:ext cx="450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ff"/>
                </a:solidFill>
                <a:latin typeface="Verdana"/>
              </a:rPr>
              <a:t>بالنسبة للمتغير س من الدرج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7093080" y="465300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الثالث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411280" y="4653000"/>
            <a:ext cx="46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 وبالنسبة للمتغير ص من الدرج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95280" y="4653000"/>
            <a:ext cx="180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الخامس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835280" y="5661000"/>
            <a:ext cx="648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 وبالنسبة للمتغيرين س ، ص من الدرج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755640" y="5661000"/>
            <a:ext cx="165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</a:rPr>
              <a:t>السادس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7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4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77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2" dur="770" fill="hold"/>
                                        <p:tgtEl>
                                          <p:spTgt spid="7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4" dur="77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6" dur="77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403200" y="3789360"/>
            <a:ext cx="8604360" cy="295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7812000" y="5516640"/>
            <a:ext cx="1042920" cy="57636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44600" y="146160"/>
            <a:ext cx="8604000" cy="360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940360" y="3933720"/>
            <a:ext cx="2879640" cy="6476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611280" y="907920"/>
            <a:ext cx="792000" cy="57636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332000" y="836640"/>
            <a:ext cx="1152360" cy="649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2627280" y="836640"/>
            <a:ext cx="1440000" cy="57636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140360" y="836640"/>
            <a:ext cx="1368360" cy="576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932360" y="260280"/>
            <a:ext cx="3743280" cy="57636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643280" y="260280"/>
            <a:ext cx="41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 تدريب (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  <a:cs typeface="Al-KsorZulfiMath"/>
              </a:rPr>
              <a:t>ذ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) صفحة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40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11280" y="907920"/>
            <a:ext cx="82087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عين درجة كثيرة الحدود: 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ذ س$ص# -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س#ص@ 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@ص# -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بالنسبة للمتغير س من الدرج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وبالنسبة للمتغير ص من الدرج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وبالنسبة للمتغيرين س ، ص من الدرج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84360" y="1700280"/>
            <a:ext cx="30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</a:rPr>
              <a:t>الرابع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2340000" y="249228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0000ff"/>
                </a:solidFill>
                <a:latin typeface="Verdana"/>
              </a:rPr>
              <a:t>الثالث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187280" y="3141720"/>
            <a:ext cx="201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السابع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724360" y="3860640"/>
            <a:ext cx="30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 ترتيب كثيرة الحدود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68360" y="472428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</a:rPr>
              <a:t>ترتب كثيرة الحدود حسب أس المتغيرات المكونة لحدوده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41440" y="5589720"/>
            <a:ext cx="8066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Verdana"/>
              </a:rPr>
              <a:t>مثال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ذ س$ + س# - س@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6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 –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11280" y="602136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مرتبة ترتيبا ً تنازليا ً لأن اس المغير س متناقص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6" dur="2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1" dur="500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77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7" dur="770" fill="hold"/>
                                        <p:tgtEl>
                                          <p:spTgt spid="7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9" dur="77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1" dur="77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77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8" dur="770" fill="hold"/>
                                        <p:tgtEl>
                                          <p:spTgt spid="7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0" dur="77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2" dur="77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77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9" dur="770" fill="hold"/>
                                        <p:tgtEl>
                                          <p:spTgt spid="7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1" dur="77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3" dur="77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9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20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2000" fill="hold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77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7" dur="77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9" dur="77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1" dur="77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0" y="4581360"/>
            <a:ext cx="9144000" cy="2276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45960" y="2496960"/>
            <a:ext cx="8642520" cy="141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38160"/>
            <a:ext cx="8642160" cy="1412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995640" y="3933720"/>
            <a:ext cx="1297080" cy="647640"/>
          </a:xfrm>
          <a:prstGeom prst="ellipse">
            <a:avLst/>
          </a:prstGeom>
          <a:solidFill>
            <a:srgbClr val="00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059280" y="1484280"/>
            <a:ext cx="360036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11280" y="26028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وكثيرة الحدود :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س  +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س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 -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س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# +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س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39640" y="83664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مرتبة تصاعديا ً حسب أس المتغير 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611280" y="2565360"/>
            <a:ext cx="85327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بسط كثيرة الحدود التالية ثم رتبها تصاعديا ً ، وما درجتها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3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س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@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– س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#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- 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+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  <a:cs typeface="Al-KsorZulfiMath"/>
              </a:rPr>
              <a:t>ذ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</a:rPr>
              <a:t>س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# -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7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س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 +ذ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  <a:cs typeface="Arabic Transparent"/>
              </a:rPr>
              <a:t>س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@ +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3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- 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843280" y="1628640"/>
            <a:ext cx="36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تدريب (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3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) صفحة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4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438360" y="393372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Verdana"/>
              </a:rPr>
              <a:t>الح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7343640" y="4444920"/>
            <a:ext cx="180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التبسيط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72000" y="4941720"/>
            <a:ext cx="273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+( - س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# +ذ </a:t>
            </a:r>
            <a:r>
              <a:rPr b="0" lang="hi-IN" sz="3200" spc="-1" strike="noStrike">
                <a:solidFill>
                  <a:srgbClr val="ff3300"/>
                </a:solidFill>
                <a:latin typeface="Verdana"/>
                <a:cs typeface="Arabic Transparent"/>
              </a:rPr>
              <a:t>س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#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804000" y="4941720"/>
            <a:ext cx="27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@ + ذ 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س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0" y="4941720"/>
            <a:ext cx="273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+(-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س – س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2484360" y="4941720"/>
            <a:ext cx="23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 + (- 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 + 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588000" y="5516640"/>
            <a:ext cx="179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س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4716360" y="551664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+ س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140360" y="558972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 + </a:t>
            </a:r>
            <a:r>
              <a:rPr b="0" lang="hi-IN" sz="3200" spc="-1" strike="noStrike">
                <a:solidFill>
                  <a:srgbClr val="0000ff"/>
                </a:solidFill>
                <a:latin typeface="Verdana"/>
                <a:cs typeface="Al-KsorZulfiMath"/>
              </a:rPr>
              <a:t>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700360" y="551664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987640" y="6278400"/>
            <a:ext cx="615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7f6a8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</a:rPr>
              <a:t>الترتيب تصاعديا ً: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ذ –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س +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س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+ س#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324000" y="6226200"/>
            <a:ext cx="230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ff"/>
                </a:solidFill>
                <a:latin typeface="Verdana"/>
              </a:rPr>
              <a:t>الدرجة : الثالث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9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6" dur="2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7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9" dur="2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770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5" dur="77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7" dur="77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9" dur="77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5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2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2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2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0" y="4581360"/>
            <a:ext cx="9144000" cy="2276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0" y="2962440"/>
            <a:ext cx="9144000" cy="1582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380880" y="692280"/>
            <a:ext cx="874872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0" y="1341360"/>
            <a:ext cx="9144000" cy="158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3492360" y="6021360"/>
            <a:ext cx="2374920" cy="576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003640" y="3716280"/>
            <a:ext cx="2448000" cy="6494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164360" y="2060640"/>
            <a:ext cx="1728720" cy="72072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076720" y="0"/>
            <a:ext cx="3816360" cy="6922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932360" y="0"/>
            <a:ext cx="388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تمارين (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6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-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) صفحة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4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1943280" y="765000"/>
            <a:ext cx="72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اختر الإجابة الصحيحة لكل مما يأتي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900000" y="1413000"/>
            <a:ext cx="7848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ثنائية حدين من الدرجة الأولى هي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س +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9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  ب~ س@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ج~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#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د~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11280" y="3141720"/>
            <a:ext cx="85327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Verdana"/>
                <a:cs typeface="Al-KsorZulfiMath"/>
              </a:rPr>
              <a:t>ذ~ </a:t>
            </a:r>
            <a:r>
              <a:rPr b="1" lang="hi-IN" sz="28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عبارة رياضية تدعى ثلاثية حدود هي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س#+ ص      ب~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hi-IN" sz="2800" spc="-1" strike="noStrike">
                <a:solidFill>
                  <a:srgbClr val="000000"/>
                </a:solidFill>
                <a:latin typeface="Verdana"/>
                <a:cs typeface="Al-KsorZulfiMath"/>
              </a:rPr>
              <a:t>س@ - س +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 ج~   !؛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l-KsorZulfiMath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l-KsorZulfiMath"/>
              </a:rPr>
              <a:t> ا ب ج       د~   ؛؛؛؛؛؛؛؛؛؛؛؛؛؛؛؛؛؛؛؛؛؛؛؛؛؛؛؛؛؛؛؛؛؛؛؛؛؛؛؛؛؛؛؛؛؛؛؛؛؛؛؛؛؛؛؛؛؛؛؛؛؛؛؛؛؛؛؛؛؛؛؛؛؛؛؛؛؛؛؛؛؛؛؛؛؛؛؛؛؛؛؛؛؛؛؛؛؛؛؛؛؛؛؛؛؛؛؛؛؛؛؛؛؛؛؛؛؛؛؛؛؛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116000" y="3573360"/>
            <a:ext cx="14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 + 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1547640" y="39337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1258920" y="4581360"/>
            <a:ext cx="788508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كثيرة حدود في أبسط صورة هي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ص@ + ص – ص           ب~ !؛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ا + ا# -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ج~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+ س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            د~ ا@ + ا -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7" dur="2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8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9" dur="2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4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9" dur="2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4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9" dur="2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8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06" dur="2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4" dur="2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22" dur="2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5T11:14:50Z</dcterms:created>
  <dc:creator>user</dc:creator>
  <dc:description/>
  <dc:language>en-US</dc:language>
  <cp:lastModifiedBy>Windows XP</cp:lastModifiedBy>
  <dcterms:modified xsi:type="dcterms:W3CDTF">2007-06-16T21:53:23Z</dcterms:modified>
  <cp:revision>11</cp:revision>
  <dc:subject/>
  <dc:title>الشريحة 1</dc:title>
</cp:coreProperties>
</file>